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B4C-DAAF-4521-842E-EF435366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 fought with brit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pangled banner, gained power of native Americans, pride in nation, come together  as a 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sovereignty- people living in a territory vote to decide on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rt of cotton provided more wealth than all other things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C95-372B-472B-990A-E95A29B4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4E27-DD3A-49AA-A0A9-82506B0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7F2-55AA-4779-A428-EDC741BE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3B7-B4DF-4B46-B460-09E92D78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3DD-AE99-4CEE-A197-3BA648C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7A8D-6D9E-42BC-9898-EA2C6786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E7D6-2B5F-4FF5-BD5B-423EEE8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8532-56A0-4FC9-ADB0-CD668BB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737-A203-421C-9A5A-0962C86E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48BE-9FB5-4D9F-B591-FACEB28D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7961-862F-4AED-A1C3-A5A4C3BE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5C4-4515-4173-9C48-ECB8D1B4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273-2C01-4D1B-9B5D-86013F5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A28B-58D9-45BA-99B5-1EFC33A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7C6D-8B3F-4731-9760-75ACF02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0EE-C05E-4EC4-A2F7-DC91092B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0F72-44AD-4037-9760-0BCD1EA8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6A9-75F8-47FA-90B6-9BEAC16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4A5-AE62-4B8B-8A43-1A03362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852-4BF4-4E25-970B-1583A86A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529-5AAD-47B5-AD11-17858BE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87C-A9A1-4D47-B23F-B424EA7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2FE-EFBB-4BAD-8CBF-19AADAB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0D7-DF99-41F1-8D8A-0D92C45B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5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6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DA8-09CE-4D47-9315-665966A54384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C76-93D2-4FEA-99B8-3EFCD9C178F0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Growth of Nation/Expansion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Heather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Expansion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Jefferson-to find the Northwest Passage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Lewis and Clark- official military mission, helped by many Indian tribes, meet Sacagawea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Manifest Destiny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Belief that white American had a God-given right to occupy the entire North American continent.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495680" y="3579840"/>
            <a:ext cx="4381560" cy="327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5120" y="6553080"/>
            <a:ext cx="650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thousands2thousands.files.wordpress.com/2009/02/manifest-destiny-3.jpg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Native American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ecumseh- Shawnee chief who tried to unite Native American tribes from the Great Lakes to the Gulf of Mexico against the westward push of white settlers, killed, 1812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rail of Tears- forced removal of the Cherokee to Indian Territory in Oklahoma 1830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War of 1812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Jefferson’s Embargo act- stopped all foreign trade, wanted to avoid war, bad for economy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rench and British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Britain pushed from north south and coastal citie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Slavery Compromise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1820- Missouri slave state, Maine free state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1850- California free state, stricter fugitive law, popular sovereignty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1854- Congress divided the Nebraska territory into the North and south, popular sovereignty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Dred Scot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lave taken by master to Illinois a free stat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Master ordered to go back to Ms and took Scott with him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1846 sued saying he should be free since he lived in a free state for a total of 5.5 years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Ruled against his freedom and said because he was black no citizenship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574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Mexican-American War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apture Mexico city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on the war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exas already independen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Gained territory of New Mexico Arizona, California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5:29Z</dcterms:created>
  <dc:creator>Yarmouth Schools</dc:creator>
  <dc:description/>
  <dc:language>en-US</dc:language>
  <cp:lastModifiedBy>YHS Teacher</cp:lastModifiedBy>
  <dcterms:modified xsi:type="dcterms:W3CDTF">2009-06-12T00:45:20Z</dcterms:modified>
  <cp:revision>17</cp:revision>
  <dc:subject/>
  <dc:title>Growth of Nation/Expansion</dc:title>
</cp:coreProperties>
</file>